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7EEA-F506-49CD-9029-DCA04F875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02E6-2C84-4D34-8446-5A1B0D34B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A6CD-7CE6-44A3-A115-2E921D16D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ED6B-C60C-47E4-8251-CD83E5222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32E1-694F-4C1B-8386-DECF03F00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804F-3656-4F6A-A95B-DAACE2297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51A7-1BE8-4F18-970C-D99CCAC4C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DB20-2202-4C4D-AC23-4C3F8F04D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35FB-4A14-433E-B77B-85CC89CCF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9965-DF21-4C09-A0CF-C0B7842D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1FDE-8DD6-497F-93C3-ACD058FC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0043-1413-4307-A842-FD464055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A0469-4D5E-4DB0-8DD6-777704F2D2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074000" y="1143000"/>
            <a:ext cx="2070000" cy="2666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l à la tête,   J’ai mal à la tê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l à la tête,  Appelez le docte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04920" y="2978280"/>
            <a:ext cx="2265120" cy="3879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447920"/>
            <a:ext cx="2362320" cy="1295280"/>
          </a:xfrm>
          <a:prstGeom prst="wedgeRoundRectCallout">
            <a:avLst>
              <a:gd name="adj1" fmla="val 27620"/>
              <a:gd name="adj2" fmla="val 8259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vez – vo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al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419720" y="2590920"/>
            <a:ext cx="2333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à la têt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1447920"/>
            <a:ext cx="2666880" cy="1295280"/>
          </a:xfrm>
          <a:prstGeom prst="wedgeRoundRectCallout">
            <a:avLst>
              <a:gd name="adj1" fmla="val 93453"/>
              <a:gd name="adj2" fmla="val 2977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ui, 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J’ai mal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057400" y="3962520"/>
            <a:ext cx="2533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e docteur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334120" y="3505320"/>
            <a:ext cx="29908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99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à la gorg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99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105520" y="4419720"/>
            <a:ext cx="3057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cc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au ventr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cc33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019920" y="5257800"/>
            <a:ext cx="25336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3333cc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au do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3333cc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715000" y="6019920"/>
            <a:ext cx="34290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aux pied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8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8T12:06:44Z</dcterms:created>
  <dc:creator>SDW</dc:creator>
  <dc:description/>
  <dc:language>en-US</dc:language>
  <cp:lastModifiedBy>SDW</cp:lastModifiedBy>
  <dcterms:modified xsi:type="dcterms:W3CDTF">2007-10-23T18:30:45Z</dcterms:modified>
  <cp:revision>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61173264</vt:r8>
  </property>
  <property fmtid="{D5CDD505-2E9C-101B-9397-08002B2CF9AE}" pid="3" name="_AuthorEmail">
    <vt:lpwstr>dbowewie@waukesha.k12.wi.us</vt:lpwstr>
  </property>
  <property fmtid="{D5CDD505-2E9C-101B-9397-08002B2CF9AE}" pid="4" name="_AuthorEmailDisplayName">
    <vt:lpwstr>Bowe-Wielgus, Deborah</vt:lpwstr>
  </property>
  <property fmtid="{D5CDD505-2E9C-101B-9397-08002B2CF9AE}" pid="5" name="_EmailSubject">
    <vt:lpwstr>STuff</vt:lpwstr>
  </property>
  <property fmtid="{D5CDD505-2E9C-101B-9397-08002B2CF9AE}" pid="6" name="_ReviewingToolsShownOnce">
    <vt:lpwstr/>
  </property>
</Properties>
</file>